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BA2-16F3-44A9-994C-4F4D9487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9C3-9B5C-4A24-BA2B-7A3EF59A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FC7-8C41-46CF-9D4C-E3E8CC53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DD5-159B-4ABF-A4A9-FEC4C7B3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5CBF-D9C5-44CC-84F7-E0E307FD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7E48-7C9E-43A1-8D04-8ED7B5DE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9D0D-5059-46F3-82C0-D805A06F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6640-9727-4DA4-9504-1F9342CB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CB38-5C77-4E23-92B1-750C47F3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36C0-805F-4347-9292-5D2E0D57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696F-59EC-4FE0-8FA8-2F5BE2D2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709-AEFE-4002-AFBE-3EF15E8D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DA46-1F1B-443C-9C80-05FD4194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B0E9-4F07-442C-B341-F6B71599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0D42-D417-4EC7-9849-25B29E71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5EC8-EDB7-4818-8279-0650128F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BD80-FDC9-4175-8372-C0E78176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ABA-16D3-4577-BF5C-CA902CC7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DA9-807E-4FB8-8CE0-08AB982F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BE7-53AB-4245-B887-85CA9847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5CA-DDF5-443E-9C2E-7F8281A3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706-DD87-4494-809B-77F753AD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E11-9BDD-4199-934D-AF4467EE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B2B-DBA3-4678-BC41-2FA981B3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77DE-FE26-4376-8D8D-B42324CFF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F30D-233E-48B4-BF27-FF927B285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M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  <a:ea typeface="Arial"/>
              </a:rPr>
              <a:t>í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Cas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: Leah Tall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4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gara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garaje es fabuloso y nue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72200" cy="411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s una mansi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ó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n.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 mansión es grande y boni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518184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cocina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ocina es estupenda y mod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a 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sala es antigua y b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2517840"/>
            <a:ext cx="541044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omedor es increible y mod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ba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b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es impresionante y gra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4876920" cy="321948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dormitor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dormitorio es bello y vie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3581640" cy="316224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patio es peq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y bon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352760" cy="32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jar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Arial"/>
              </a:rPr>
              <a:t>í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j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es estupendo y  mod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334120" cy="358308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1:23Z</dcterms:created>
  <dc:creator>tallmanlea</dc:creator>
  <dc:description/>
  <dc:language>en-US</dc:language>
  <cp:lastModifiedBy>tallmanlea</cp:lastModifiedBy>
  <dcterms:modified xsi:type="dcterms:W3CDTF">2012-10-25T17:51:24Z</dcterms:modified>
  <cp:revision>4</cp:revision>
  <dc:subject/>
  <dc:title>La Casa Leah Tallman</dc:title>
</cp:coreProperties>
</file>